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E057-F8AD-4CD5-883D-5170F509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170F-2F61-4A39-9C8C-8201EE9D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F16C-4AC7-4479-90B6-34A2AA10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6CF2-F0BD-4127-8212-588BA032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8E3B-C8A3-45EE-A5DE-BCC603AC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53C0-E721-4C48-B74B-0A8B4447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AE2C-6B91-4843-B56C-7AE17C2E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CECB-4CCE-4290-B55B-C981EC12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8B89-4335-4803-A4ED-97B318F9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8338-57A9-4C6B-A8DE-405FEB5B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2BB0-689A-4E8C-9546-6CEE0523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99B6-FB28-44B2-80E0-0C1E33A0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CDEE-434A-4C91-84CF-0EFBEA0D8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95280" y="549360"/>
            <a:ext cx="828036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ff"/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C'era una volta un bellissimo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00ff"/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ff"/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e  meraviglioso giardino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00ff"/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ff"/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Era situato ad ovest del paese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00ff"/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ff"/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in mezzo al grande regno.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00ff"/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01480" y="371520"/>
            <a:ext cx="8642520" cy="6486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403280" y="3716280"/>
            <a:ext cx="698508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... e l'albero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in grande venerazione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chinò la testa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68360" y="549360"/>
            <a:ext cx="8424720" cy="60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0000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Il Signore disse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ff0000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0000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"Mio caro bambù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ff0000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0000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ho bisogno di te!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ff0000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000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450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755640" y="-674640"/>
            <a:ext cx="7993080" cy="849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18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embrò  al  bambù </a:t>
            </a:r>
            <a:endParaRPr b="1" lang="en-US" sz="2400" spc="1" strike="noStrike">
              <a:ln w="32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che  fosse  venuto </a:t>
            </a:r>
            <a:endParaRPr b="1" lang="en-US" sz="2400" spc="1" strike="noStrike">
              <a:ln w="32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il  giorno  di  tutti  i  giorni,</a:t>
            </a:r>
            <a:endParaRPr b="1" lang="en-US" sz="2400" spc="1" strike="noStrike">
              <a:ln w="32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5000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il  giorno  per  cui  era  nato.</a:t>
            </a:r>
            <a:endParaRPr b="1" lang="en-US" sz="2400" spc="1" strike="noStrike">
              <a:ln w="32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32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5000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99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50920" y="1989000"/>
            <a:ext cx="864216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arrington"/>
              </a:rPr>
              <a:t>Con  grande  gioia, </a:t>
            </a:r>
            <a:endParaRPr b="1" i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arrington"/>
              </a:rPr>
              <a:t>ma  a  bassa  voce,</a:t>
            </a:r>
            <a:endParaRPr b="1" i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arrington"/>
              </a:rPr>
              <a:t>il  bambu'  rispose:</a:t>
            </a:r>
            <a:endParaRPr b="1" i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63640" y="260280"/>
            <a:ext cx="7056360" cy="633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260280"/>
            <a:ext cx="6264000" cy="633744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03280" y="1052640"/>
            <a:ext cx="640872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"O Signore, </a:t>
            </a:r>
            <a:endParaRPr b="1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ono pronto.</a:t>
            </a:r>
            <a:endParaRPr b="1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Fà di me </a:t>
            </a:r>
            <a:endParaRPr b="1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l'uso che vuoi!"</a:t>
            </a:r>
            <a:endParaRPr b="1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7676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395280" y="333360"/>
            <a:ext cx="8424720" cy="61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oper Black"/>
              </a:rPr>
              <a:t>"Bambù" ,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oper Black"/>
              <a:ea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oper Black"/>
              </a:rPr>
              <a:t>la  voce  del  Signor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oper Black"/>
              <a:ea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oper Black"/>
              </a:rPr>
              <a:t>era  più  seria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oper Black"/>
              <a:ea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oper Black"/>
              </a:rPr>
              <a:t>"Per  usarti  devo  abbatterti"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oper Black"/>
              <a:ea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oper Black"/>
              </a:rPr>
              <a:t>Il  bambù  spaventato rispose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38280" y="765000"/>
            <a:ext cx="786744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oper Black"/>
              </a:rPr>
              <a:t>"Abbattermi,  Signore,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oper Black"/>
              <a:ea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oper Black"/>
              </a:rPr>
              <a:t>dopo  che  mi hai  fatto diventare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oper Black"/>
              <a:ea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oper Black"/>
              </a:rPr>
              <a:t>il  più  bel  albero  del  tuo  giardino?"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58920" y="260280"/>
            <a:ext cx="6769080" cy="6193080"/>
          </a:xfrm>
          <a:prstGeom prst="ellipse">
            <a:avLst/>
          </a:prstGeom>
          <a:gradFill rotWithShape="0">
            <a:gsLst>
              <a:gs pos="0">
                <a:srgbClr val="cc00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39640" y="404640"/>
            <a:ext cx="8134560" cy="55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ritannic Bold"/>
              </a:rPr>
              <a:t>"No  per  favore, no!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ritannic Bold"/>
              </a:rPr>
              <a:t>Fà  uso  di  me  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ritannic Bold"/>
              </a:rPr>
              <a:t>per  la  tua  gioia,  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ritannic Bold"/>
              </a:rPr>
              <a:t>Signore,  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Britannic Bold"/>
              </a:rPr>
              <a:t>ma  per  favore,  non  abbatermi!"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cc00ff"/>
            </a:gs>
            <a:gs pos="100000">
              <a:srgbClr val="cc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9930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68360" y="620640"/>
            <a:ext cx="8424720" cy="583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50000">
                      <a:srgbClr val="ffffff"/>
                    </a:gs>
                    <a:gs pos="100000">
                      <a:srgbClr val="cc99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Eras Bold ITC"/>
              </a:rPr>
              <a:t>"Mio caro bambù",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50000">
                    <a:srgbClr val="ffffff"/>
                  </a:gs>
                  <a:gs pos="100000">
                    <a:srgbClr val="cc99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50000">
                      <a:srgbClr val="ffffff"/>
                    </a:gs>
                    <a:gs pos="100000">
                      <a:srgbClr val="cc99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Eras Bold ITC"/>
              </a:rPr>
              <a:t>disse il Signore molto dispiaciuto,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50000">
                    <a:srgbClr val="ffffff"/>
                  </a:gs>
                  <a:gs pos="100000">
                    <a:srgbClr val="cc99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50000">
                      <a:srgbClr val="ffffff"/>
                    </a:gs>
                    <a:gs pos="100000">
                      <a:srgbClr val="cc99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Eras Bold ITC"/>
              </a:rPr>
              <a:t>"Non  devo  solo  abbatterti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50000">
                    <a:srgbClr val="ffffff"/>
                  </a:gs>
                  <a:gs pos="100000">
                    <a:srgbClr val="cc99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50000">
                      <a:srgbClr val="ffffff"/>
                    </a:gs>
                    <a:gs pos="100000">
                      <a:srgbClr val="cc99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Eras Bold ITC"/>
              </a:rPr>
              <a:t>ma  anche  tagliart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50000">
                    <a:srgbClr val="ffffff"/>
                  </a:gs>
                  <a:gs pos="100000">
                    <a:srgbClr val="cc99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50000">
                      <a:srgbClr val="ffffff"/>
                    </a:gs>
                    <a:gs pos="100000">
                      <a:srgbClr val="cc99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Eras Bold ITC"/>
              </a:rPr>
              <a:t>le  foglie  e  i  rami"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50000">
                    <a:srgbClr val="ffffff"/>
                  </a:gs>
                  <a:gs pos="100000">
                    <a:srgbClr val="cc99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Eras Bold ITC"/>
              <a:ea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4360" y="836640"/>
            <a:ext cx="7920000" cy="54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pyrus"/>
              </a:rPr>
              <a:t>Nel  giardino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pyrus"/>
              <a:ea typeface="Papyru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pyrus"/>
              </a:rPr>
              <a:t>ci  fu  un  grande  silenzio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pyrus"/>
              <a:ea typeface="Papyru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pyrus"/>
              </a:rPr>
              <a:t>Il  vento  non  tirava  più,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pyrus"/>
              <a:ea typeface="Papyru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pyrus"/>
              </a:rPr>
              <a:t>gli  uccelli  non  cantavano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pyrus"/>
              <a:ea typeface="Papyr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11280" y="476280"/>
            <a:ext cx="784836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50000">
                      <a:srgbClr val="ffffff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oper Black"/>
              </a:rPr>
              <a:t>Il  Signore  di  questo  giardino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50000">
                    <a:srgbClr val="ffffff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oper Black"/>
              <a:ea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50000">
                      <a:srgbClr val="ffffff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oper Black"/>
              </a:rPr>
              <a:t>aveva  l'abitudine  di  farvi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50000">
                    <a:srgbClr val="ffffff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oper Black"/>
              <a:ea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50000">
                      <a:srgbClr val="ffffff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oper Black"/>
              </a:rPr>
              <a:t>una  passagiat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50000">
                    <a:srgbClr val="ffffff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oper Black"/>
              <a:ea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50000">
                      <a:srgbClr val="ffffff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oper Black"/>
              </a:rPr>
              <a:t>ogni  giorno,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50000">
                    <a:srgbClr val="ffffff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oper Black"/>
              <a:ea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50000">
                      <a:srgbClr val="ffffff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oper Black"/>
              </a:rPr>
              <a:t>quando  il  caldo  della  giornata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50000">
                    <a:srgbClr val="ffffff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oper Black"/>
              <a:ea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5050"/>
                    </a:gs>
                    <a:gs pos="50000">
                      <a:srgbClr val="ffffff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oper Black"/>
              </a:rPr>
              <a:t>era  più  forte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5050"/>
                  </a:gs>
                  <a:gs pos="50000">
                    <a:srgbClr val="ffffff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5000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68360" y="765000"/>
            <a:ext cx="8136000" cy="547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entamente,  molto  lentamente, </a:t>
            </a:r>
            <a:endParaRPr b="0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l  bambù chinò  la sua  meravigliosa </a:t>
            </a:r>
            <a:endParaRPr b="0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hioma e  sussurrò:</a:t>
            </a:r>
            <a:endParaRPr b="0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"Signore se non  puoi  usarmi </a:t>
            </a:r>
            <a:endParaRPr b="0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enza abbattermi </a:t>
            </a:r>
            <a:endParaRPr b="0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  tagliarmi tutto, </a:t>
            </a:r>
            <a:endParaRPr b="0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fà di me quello che vuoi".</a:t>
            </a:r>
            <a:endParaRPr b="0" lang="en-US" sz="12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324000" y="692280"/>
            <a:ext cx="8496000" cy="64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"Caro bambù, devo farti ancora di più.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Devo spaccarti in due 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e strapparti il cuore.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e non posso farti questo,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non posso usarti!"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99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539640" y="1700280"/>
            <a:ext cx="81360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hiller"/>
              </a:rPr>
              <a:t>Il  bambù  non  potè  parlare.</a:t>
            </a:r>
            <a:endParaRPr b="1" i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hiller"/>
              <a:ea typeface="Chill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hiller"/>
              </a:rPr>
              <a:t>Chinò  fino  a  terra</a:t>
            </a:r>
            <a:endParaRPr b="1" i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hiller"/>
              <a:ea typeface="Chill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hiller"/>
              </a:rPr>
              <a:t>la  sua  gloriosa  chioma.</a:t>
            </a:r>
            <a:endParaRPr b="1" i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hiller"/>
              <a:ea typeface="Chil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33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97960" cy="5378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68360" y="4508640"/>
            <a:ext cx="7920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33ccff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Così il Signore del giardino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33ccff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33ccff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abbattè il bambù..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33ccff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788000" y="404640"/>
            <a:ext cx="3819600" cy="4424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755640" y="5229360"/>
            <a:ext cx="7704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tagliandolo fino a terra...</a:t>
            </a:r>
            <a:endParaRPr b="1" lang="en-US" sz="20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144600" cy="4608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3492360" y="4221000"/>
            <a:ext cx="52563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egò  i  rami </a:t>
            </a:r>
            <a:endParaRPr b="0" i="1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e  levò  le  foglie...</a:t>
            </a:r>
            <a:endParaRPr b="0" i="1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68360" y="549360"/>
            <a:ext cx="842472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lo spaccò in due 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e ne estirpò il cuore!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15408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68360" y="765000"/>
            <a:ext cx="7777080" cy="511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Kristen ITC"/>
              </a:rPr>
              <a:t>Poi  portò  il  bambù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Kristen ITC"/>
              </a:rPr>
              <a:t>alla  fonte di  acqua  fresca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Kristen ITC"/>
              </a:rPr>
              <a:t>vicino  ai  suoi  campi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Kristen ITC"/>
              </a:rPr>
              <a:t>inariditi.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765000"/>
            <a:ext cx="7777080" cy="511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Kristen ITC"/>
              </a:rPr>
              <a:t>Poi  portò  il  bambù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Kristen ITC"/>
              </a:rPr>
              <a:t>alla  fonte di  acqua  fresca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Kristen ITC"/>
              </a:rPr>
              <a:t>vicino  ai  suoi  campi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Kristen ITC"/>
              </a:rPr>
              <a:t>inariditi.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24000" y="476280"/>
            <a:ext cx="5760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Là, delicatamente,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il Signore dispose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l'amato bambù a terra: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908000" y="3716280"/>
            <a:ext cx="664056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un'estremità del tronco </a:t>
            </a:r>
            <a:endParaRPr b="0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la collegò alla fonte,</a:t>
            </a:r>
            <a:endParaRPr b="0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l'altra la diresse </a:t>
            </a:r>
            <a:endParaRPr b="0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verso il suo campo arido.</a:t>
            </a:r>
            <a:endParaRPr b="0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539640" y="765000"/>
            <a:ext cx="8280360" cy="55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La fonte dava acqua,  e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l'acqua si riversava sul campo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che aveva tanto aspettato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050920" y="549360"/>
            <a:ext cx="6777000" cy="56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C'era in questo giardin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un bambù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di aspetto nobile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era il più bell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di tutti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68360" y="836640"/>
            <a:ext cx="8164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e nacque la vita!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684360" y="907920"/>
            <a:ext cx="8135640" cy="492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Quando era ancora grande,</a:t>
            </a:r>
            <a:endParaRPr b="1" lang="en-US" sz="20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bello e grazioso, il bambù</a:t>
            </a:r>
            <a:endParaRPr b="1" lang="en-US" sz="20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viveva solo per se stesso...</a:t>
            </a:r>
            <a:endParaRPr b="1" lang="en-US" sz="20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611280" y="2565360"/>
            <a:ext cx="784836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pyrus"/>
              </a:rPr>
              <a:t>... e  il  Signore  amava 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pyrus"/>
              <a:ea typeface="Papyru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pyrus"/>
              </a:rPr>
              <a:t>questo  bambù 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pyrus"/>
              <a:ea typeface="Papyru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Papyrus"/>
              </a:rPr>
              <a:t>più  di  tutte  le  altre  piante.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Papyrus"/>
              <a:ea typeface="Papyr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476360" y="2997360"/>
            <a:ext cx="684072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e amava solo </a:t>
            </a:r>
            <a:endParaRPr b="1" lang="en-US" sz="2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la propria bellezza.</a:t>
            </a:r>
            <a:endParaRPr b="1" lang="en-US" sz="2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826920" y="1052640"/>
            <a:ext cx="770436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Ora invece,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nel suo stato povero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e distrutto,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era diventato...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68360" y="836640"/>
            <a:ext cx="820728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un canale che il Signore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usava per rendere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fecondo il suo regno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68360" y="189000"/>
            <a:ext cx="8424720" cy="666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Così il meraviglioso bambù, </a:t>
            </a:r>
            <a:endParaRPr b="1" lang="en-US" sz="20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nelle mani del suo Signore,</a:t>
            </a:r>
            <a:endParaRPr b="1" lang="en-US" sz="20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divenne una grande </a:t>
            </a:r>
            <a:endParaRPr b="1" lang="en-US" sz="20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benedizione per tutti!</a:t>
            </a:r>
            <a:endParaRPr b="1" lang="en-US" sz="20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24000" y="476280"/>
            <a:ext cx="8424720" cy="547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arrington"/>
              </a:rPr>
              <a:t>Anno  dopo  anno,</a:t>
            </a:r>
            <a:endParaRPr b="1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arrington"/>
              </a:rPr>
              <a:t>questo  bambù  cresceva</a:t>
            </a:r>
            <a:endParaRPr b="1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arrington"/>
              </a:rPr>
              <a:t>e  diventava  sempre più  bello </a:t>
            </a:r>
            <a:endParaRPr b="1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arrington"/>
              </a:rPr>
              <a:t>e  più  grazioso.</a:t>
            </a:r>
            <a:endParaRPr b="1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755640" y="4076640"/>
            <a:ext cx="7632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Era  bellissimo!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6163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755640" y="620640"/>
            <a:ext cx="748980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1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Kristen ITC"/>
              </a:rPr>
              <a:t>Il  bambù  sapeva  che</a:t>
            </a:r>
            <a:endParaRPr b="1" i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Kristen ITC"/>
              </a:rPr>
              <a:t>il  Signore  lo  amava... </a:t>
            </a:r>
            <a:endParaRPr b="1" i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99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67240" y="0"/>
            <a:ext cx="467676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042920" y="3500280"/>
            <a:ext cx="50418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arrington"/>
              </a:rPr>
              <a:t>... e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Harrington"/>
              </a:rPr>
              <a:t>ne  godeva!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Harrington"/>
              <a:ea typeface="Harringt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91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195640" y="549360"/>
            <a:ext cx="664992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Un giorno il Signore,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molto in pensiero,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si avvicinò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ffffff"/>
                    </a:gs>
                  </a:gsLst>
                  <a:lin ang="108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Comic Sans MS"/>
              </a:rPr>
              <a:t>al suo amato albero...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100000">
                    <a:srgbClr val="ffffff"/>
                  </a:gs>
                </a:gsLst>
                <a:lin ang="108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09:08:21Z</dcterms:created>
  <dc:creator>User</dc:creator>
  <dc:description/>
  <dc:language>en-US</dc:language>
  <cp:lastModifiedBy>*</cp:lastModifiedBy>
  <dcterms:modified xsi:type="dcterms:W3CDTF">2005-11-29T10:28:24Z</dcterms:modified>
  <cp:revision>31</cp:revision>
  <dc:subject/>
  <dc:title>Diapositiva 1</dc:title>
</cp:coreProperties>
</file>